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DCE-BA24-40B6-BF5A-9A8C33E4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040-E6C8-4A98-A829-21B81F8B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F20-D61D-479E-BC1A-73673C43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E89-A9D9-45E0-90E1-9ED345E0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83E7-EA68-47BA-AEA1-F2FE4928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2FA2-2FC6-4637-8B8F-D24743E8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E064-CF99-4DC1-BCE2-D6CC69C3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8E35-567D-46CE-9603-78EFC75E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57D3-4AC5-460A-9DF1-F8258FD9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208E-10F5-41CA-8496-EAD2FDC2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136E-53AD-425B-911A-8FF9AB37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9B0-6AE9-4383-BE9A-C40B92A0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99A8-C74A-4144-934E-4482308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9BB8-CC8C-440F-A91F-50DD6B3A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F126-CC60-4AED-AAB2-7DD4CCD2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C5ED-611A-4DE0-8218-7ABFA4DC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4B17-99ED-40A2-8AAE-1E3C932E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746-13E5-4165-85C3-2280911D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56A-C6AE-414F-9087-75BD9B6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E38-76BA-40B2-AC03-E28AB60A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C1D-91B1-4347-8A0A-F2E64DBC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67E-B2F5-4A82-995D-E5778544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052-AF6C-4A71-AFB8-CFD354CF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FF7-E0E0-4D6B-80C2-E0045589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ＨＧｺﾞｼｯｸE-PRO"/>
                <a:ea typeface="ＨＧｺﾞｼｯｸE-PR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ＨＧｺﾞｼｯｸE-PRO"/>
                <a:ea typeface="ＨＧｺﾞｼｯｸE-PRO"/>
              </a:rPr>
              <a:t>2005/1/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ROSPECT Inc. / Renesas Solutions Cor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1570-1A28-4151-881F-B544230EE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010280" y="6396120"/>
            <a:ext cx="1067040" cy="2332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536400" y="63691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600280" cy="3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3619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267080" y="533412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2005/1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133720" y="59436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000" spc="-1" strike="noStrike">
                <a:solidFill>
                  <a:srgbClr val="000000"/>
                </a:solidFill>
                <a:latin typeface="Times New Roman"/>
                <a:ea typeface="ＤＦＰPOP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ＤＦＰPOP体"/>
              </a:rPr>
              <a:t>PROSPECT Inc./Renesas Solutions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E36B-7AEA-4F68-9E4C-6317044EA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7600" y="263700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0280" y="26370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440" y="3059280"/>
            <a:ext cx="422280" cy="474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1160" y="3059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7080" y="2986200"/>
            <a:ext cx="560160" cy="422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52900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800" y="3319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62520" y="4876920"/>
            <a:ext cx="1600200" cy="350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47840" y="1514520"/>
            <a:ext cx="2600280" cy="390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D Graphics Library Implement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57200"/>
            <a:ext cx="3581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F PLENARY MEETING 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880" y="59436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8F1F-BE64-4B7D-8D18-35B181A8AA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Configuration of Auror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5029200"/>
            <a:ext cx="2133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H4-300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6200" y="548640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 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BX+VGP:150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548640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PCM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4419720"/>
            <a:ext cx="6400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5029200"/>
            <a:ext cx="20574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3886200"/>
            <a:ext cx="64008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T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3352680"/>
            <a:ext cx="41911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/V Steaming Middl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3352680"/>
            <a:ext cx="21333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2133720"/>
            <a:ext cx="6400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5029200"/>
            <a:ext cx="20574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nd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DD0-AE93-46B2-9654-B22A1274A2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266688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76520" y="2437920"/>
            <a:ext cx="1218600" cy="152640"/>
            <a:chOff x="1676520" y="2437920"/>
            <a:chExt cx="1218600" cy="152640"/>
          </a:xfrm>
        </p:grpSpPr>
        <p:sp>
          <p:nvSpPr>
            <p:cNvPr id="278" name=""/>
            <p:cNvSpPr/>
            <p:nvPr/>
          </p:nvSpPr>
          <p:spPr>
            <a:xfrm>
              <a:off x="167652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520" y="25905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75248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52480" y="243828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895480" y="2437920"/>
            <a:ext cx="1219320" cy="152640"/>
            <a:chOff x="2895480" y="2437920"/>
            <a:chExt cx="1219320" cy="152640"/>
          </a:xfrm>
        </p:grpSpPr>
        <p:sp>
          <p:nvSpPr>
            <p:cNvPr id="283" name=""/>
            <p:cNvSpPr/>
            <p:nvPr/>
          </p:nvSpPr>
          <p:spPr>
            <a:xfrm>
              <a:off x="289548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5480" y="2590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97180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71800" y="243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114800" y="2437920"/>
            <a:ext cx="1219320" cy="152640"/>
            <a:chOff x="4114800" y="2437920"/>
            <a:chExt cx="1219320" cy="152640"/>
          </a:xfrm>
        </p:grpSpPr>
        <p:sp>
          <p:nvSpPr>
            <p:cNvPr id="288" name=""/>
            <p:cNvSpPr/>
            <p:nvPr/>
          </p:nvSpPr>
          <p:spPr>
            <a:xfrm>
              <a:off x="411480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590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19112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1120" y="243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334120" y="2437920"/>
            <a:ext cx="1218600" cy="152640"/>
            <a:chOff x="5334120" y="2437920"/>
            <a:chExt cx="1218600" cy="152640"/>
          </a:xfrm>
        </p:grpSpPr>
        <p:sp>
          <p:nvSpPr>
            <p:cNvPr id="293" name=""/>
            <p:cNvSpPr/>
            <p:nvPr/>
          </p:nvSpPr>
          <p:spPr>
            <a:xfrm>
              <a:off x="533412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34120" y="25905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541008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10080" y="243828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553080" y="2437920"/>
            <a:ext cx="1219320" cy="152640"/>
            <a:chOff x="6553080" y="2437920"/>
            <a:chExt cx="1219320" cy="152640"/>
          </a:xfrm>
        </p:grpSpPr>
        <p:sp>
          <p:nvSpPr>
            <p:cNvPr id="298" name=""/>
            <p:cNvSpPr/>
            <p:nvPr/>
          </p:nvSpPr>
          <p:spPr>
            <a:xfrm>
              <a:off x="655308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2590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62940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29400" y="243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772400" y="2437920"/>
            <a:ext cx="1219320" cy="152640"/>
            <a:chOff x="7772400" y="2437920"/>
            <a:chExt cx="1219320" cy="152640"/>
          </a:xfrm>
        </p:grpSpPr>
        <p:sp>
          <p:nvSpPr>
            <p:cNvPr id="303" name=""/>
            <p:cNvSpPr/>
            <p:nvPr/>
          </p:nvSpPr>
          <p:spPr>
            <a:xfrm>
              <a:off x="7772400" y="24382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259056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848720" y="2437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48720" y="243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971800" y="2666880"/>
            <a:ext cx="838080" cy="228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2666880"/>
            <a:ext cx="16761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2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266688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4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297180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60" y="236232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Y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0" y="2666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CPU cal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97180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LERATOR Write In to 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297180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2971800"/>
            <a:ext cx="914400" cy="228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297180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848720" y="32767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1120" y="3276720"/>
            <a:ext cx="11430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3276720"/>
            <a:ext cx="1143000" cy="228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3276720"/>
            <a:ext cx="1143000" cy="228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3240" y="3200400"/>
            <a:ext cx="203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play Readout from F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73640" y="182880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=16.6ms(for NTS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765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6520" y="2133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191120"/>
            <a:ext cx="8991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(or not) to provide Synchronization API among CPU, ACC, and Display Dri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LERATOR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also require y or more time to draw the triang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o full them with textures. How to detect the tim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(or not) to provide mechanism to forcing to stop the CPU/ACC at next VSYNC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D ACCELERATOR may this problem more difficult. Which has the priority among 2D or 3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me user is requesting to draw 2D and 3D in a frame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Each accelerator needs to announce their finish of drawing to CP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Motion Image like MPEG2/4 could be integrated with these images. How to synchronize the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5400" y="32259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78400" y="322596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2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48720" y="363204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363204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0080" y="363204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29400" y="363204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5400" y="358128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2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78400" y="358128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+3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8120" y="358128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e Time to 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880-524E-43D2-AAC1-D68D5F2B05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to specify the application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list up the application ca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M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ll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ME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  Car Navig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 and 3D Mixed Image on Navig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gital TV 3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veillance Video, et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s to specify the coverage of OS for the 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to clarify on the requirement on HAL, Synchronization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Management, 2D/3D Mixed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vity with the other working gro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invite 3rd Pa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lerator venders, Library vender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2BB-05D0-46E5-BA3F-7CE20BA894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nt Embedded 3D Graph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any Embedded 3D Hardware Accelerators are available.(See P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Separate Chip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：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nVIDEA, ATI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P Core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　：　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magination Technologies, BitBoy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Japanese Semicon Vender tends to provide their own c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Various implementations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SeeP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ifferent CPUs, w/wo Floating Point Processor,w/wo Geometry -Vector Porcessor, w/wo 2D Accelerator,,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Many Embedded 3D Graphics Libraries are avail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OPEN/GL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riterion,  Fatfammer, IdeaWorks, Mascot Capsule, Superscap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4ED-DF57-4567-9D36-A471E25390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2133720"/>
            <a:ext cx="6781680" cy="411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9144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D Graphics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51460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0384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7242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33412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3526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583000" y="2133720"/>
            <a:ext cx="792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67720" y="4827600"/>
            <a:ext cx="74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6520" y="41418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nVID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345600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itB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6320" y="47512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mage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7040" y="406548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o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C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77640" y="211788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2360" y="21337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20440" y="411480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nion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6720" y="3379680"/>
            <a:ext cx="13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P-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22480" y="3379680"/>
            <a:ext cx="101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ccele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2680" y="2666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1680" y="2590920"/>
            <a:ext cx="11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B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BX-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05040" y="2541600"/>
            <a:ext cx="13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IP-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75080" y="213372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95360" y="21337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57760" y="21178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1337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7000" y="5334120"/>
            <a:ext cx="19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ENESA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3D/Z4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1280" y="56451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2520" y="5562720"/>
            <a:ext cx="16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SHIB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4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73080" y="5791320"/>
            <a:ext cx="9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10080" y="6019920"/>
            <a:ext cx="15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SHAR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21160" y="2465280"/>
            <a:ext cx="1299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E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, INTE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0440" y="4876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nion C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123-35A7-401B-B8CC-8B95CBD8F5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ation MBX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133720"/>
            <a:ext cx="6781680" cy="40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4382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96252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472428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548640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320040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28800" y="2133720"/>
            <a:ext cx="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6668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4592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41911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9831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5715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048120" y="2133720"/>
            <a:ext cx="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60280" y="20574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9600" y="2057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267080" y="2133720"/>
            <a:ext cx="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486400" y="2133720"/>
            <a:ext cx="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8920" y="2057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05720" y="2133720"/>
            <a:ext cx="7920" cy="40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452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-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98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-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3600" y="2590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4320" y="33526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4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4320" y="41148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7640" y="48769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94800" y="5535720"/>
            <a:ext cx="16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arate CHI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8520" y="2590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8520" y="3352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484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4840" y="5638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05520" y="4876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4876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41200" y="4876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800" y="4114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VGP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8920" y="2590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41760" y="33526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41200" y="2590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1200" y="335268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440" y="41148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BX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4160" y="5638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440" y="56386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BX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3572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6800" y="33526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3480" y="396252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3480" y="464832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3480" y="541008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95A-FA7A-4E2B-B726-2E4A578B58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F AVG 2D Hardware Ab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Integrating the abstraction layer named DirectF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esent Target: SH7751R+Silicon Motion for Digital TV application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ene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ovides a light-weight and standardized interface for CE appli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ovides the portability and usability among the different hard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Provides application direct pass to controller to enable hardware draw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GTK+ on top of DirectFB will also provide the application port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Requirement /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Needs to develop a special driver for the hardware accel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ntegrated with the frame buffer driver for standard LINUX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irectFB is not so common in PC LINUX world such as PC LINUX adopt X11 based windowing environ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hen not so many implementation y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B81-6707-4945-8179-915577A2EA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To investigate the possibility of HAL for 3D graphics libra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Coexistence with HAL for 2D graphics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CELF  2D HAL is using DirectF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Direct FB can be expanded to 3D using MESA(a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free OpenGL compliant library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/DRI named DirectFBG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KAA mechanism for 2D acceleration  implementation is also abvail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eeds to investigate these HAL and the other candida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To specify the way to put 3D image on a 2D structure.moving image fr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It may be possible to write 3D image on the specific moving image fr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eeds to check the frame de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Needs to check 2D graphics component on top of 3D imag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Is it possible to draw both 3D and 2D image in a frame simultaneous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D and 3D Hardware  needs to create synchronization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3CA-AD98-4D2D-956C-D2E3FE0AE6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mprove th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to provide the way to synchronize 2D/3D/Display Driv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ination’s 3rd Party Display Driver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to provide the substitution way for the floating point mathematics cap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the implementation with no floating point arithmetic unit or vector arithmetic unit for geomet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s to check a resource allocation mechanism for CPU(and Bus or Memory) : This is an essential OS structure 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may be OK if CPU in one thread could be used for 2D/3D drawing using VSYNC Synchronization and if the application manages the prior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 communication or sound drivers is initiating new thread, the session of communication or the sound stream could be disturbed, or 3D graphics loses some fra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AF4-EFCA-41FF-A2C8-A9D18C18A2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ROR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0680"/>
            <a:ext cx="6335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Integrated with CPU“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H-4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”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uperH</a:t>
            </a:r>
            <a:r>
              <a:rPr b="0" lang="ja-JP" sz="1400" spc="-1" strike="noStrike" baseline="30000">
                <a:solidFill>
                  <a:srgbClr val="000000"/>
                </a:solidFill>
                <a:latin typeface="ＭＳ Ｐ明朝"/>
                <a:ea typeface="ＭＳ Ｐ明朝"/>
              </a:rPr>
              <a:t>TM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）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,“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PowerVR</a:t>
            </a:r>
            <a:r>
              <a:rPr b="0" lang="ja-JP" sz="1400" spc="-1" strike="noStrike">
                <a:solidFill>
                  <a:srgbClr val="000000"/>
                </a:solidFill>
                <a:latin typeface="Century"/>
                <a:ea typeface="ＭＳ Ｐ明朝"/>
              </a:rPr>
              <a:t>®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”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Imagination Technologies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）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, and AD PCM Sound Eng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8149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41911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3388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0292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449568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514600"/>
            <a:ext cx="633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I-ELECTORNICS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: a part of </a:t>
            </a: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EGA-SAMMY Holdings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has designed </a:t>
            </a: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AURORA System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for their busin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AURORA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consists of  a system-on-chip solution integrated with CPU, Graphics Hardware Accelerator Engin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and Sound Engine and provides very compact and high performance 3D graphics and sound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4114800"/>
            <a:ext cx="633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High End 3D Graphics Capability : 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Triangle drawing : 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１０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M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ｐｏｌｙｇｏｎ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/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ｓｅｃ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,  and Pixel Fill Rate : 150M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ｐｉｘｅｌ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/</a:t>
            </a: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ｓｅ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4419720"/>
            <a:ext cx="6335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Specially designed </a:t>
            </a: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D graphics library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provides simple and easy development environ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for 3D graphics application not requiring deep hardware knowl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952880"/>
            <a:ext cx="633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Movie/Stream Audio middleware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provides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High Quality and High Performance Video and Audio rende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270400"/>
            <a:ext cx="633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(Real-time)</a:t>
            </a:r>
            <a:r>
              <a:rPr b="1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LINUX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OS provides highly efficient Real-time multi-task ope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209680"/>
            <a:ext cx="1752480" cy="220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bebe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36000" anchor="b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AURORA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3352680"/>
            <a:ext cx="1676520" cy="2286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bebe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0" bIns="36000" anchor="b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E34-8FAD-4082-AB4A-9A4D41E67B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Diagram of AUROR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2400" y="2216160"/>
            <a:ext cx="6480000" cy="367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45040" y="3059280"/>
            <a:ext cx="160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0600" y="32385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0M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58000" y="50799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0M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9440" y="2373480"/>
            <a:ext cx="118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1280x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46840" y="4981680"/>
            <a:ext cx="43812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2480" y="476100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64400" y="4981680"/>
            <a:ext cx="43812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U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8560" y="5249880"/>
            <a:ext cx="144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59480" y="4761000"/>
            <a:ext cx="18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81840" y="4767120"/>
            <a:ext cx="14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37280" y="4794120"/>
            <a:ext cx="1171440" cy="89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946840" y="5351400"/>
            <a:ext cx="35856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3640" y="562608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0480" y="5087880"/>
            <a:ext cx="43848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62400" y="5176800"/>
            <a:ext cx="43848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24320" y="5265720"/>
            <a:ext cx="49068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648480" y="2790720"/>
            <a:ext cx="655560" cy="528840"/>
            <a:chOff x="6648480" y="2790720"/>
            <a:chExt cx="655560" cy="528840"/>
          </a:xfrm>
        </p:grpSpPr>
        <p:sp>
          <p:nvSpPr>
            <p:cNvPr id="224" name=""/>
            <p:cNvSpPr/>
            <p:nvPr/>
          </p:nvSpPr>
          <p:spPr>
            <a:xfrm>
              <a:off x="6648480" y="2790720"/>
              <a:ext cx="655560" cy="528840"/>
            </a:xfrm>
            <a:prstGeom prst="cube">
              <a:avLst>
                <a:gd name="adj" fmla="val 1373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57920" y="2951280"/>
              <a:ext cx="109080" cy="10800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76800" y="3059280"/>
              <a:ext cx="109440" cy="107640"/>
            </a:xfrm>
            <a:prstGeom prst="cube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57920" y="3113280"/>
              <a:ext cx="109080" cy="16020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Music"/>
          <p:cNvSpPr/>
          <p:nvPr/>
        </p:nvSpPr>
        <p:spPr>
          <a:xfrm>
            <a:off x="7007400" y="4441680"/>
            <a:ext cx="72720" cy="115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ound"/>
          <p:cNvSpPr/>
          <p:nvPr/>
        </p:nvSpPr>
        <p:spPr>
          <a:xfrm>
            <a:off x="6676920" y="4335480"/>
            <a:ext cx="238320" cy="320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26200" y="4983120"/>
            <a:ext cx="47628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08400" y="3224160"/>
            <a:ext cx="2346120" cy="1754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73320" y="3352680"/>
            <a:ext cx="655560" cy="266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M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03440" y="3619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44960" y="39085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52760" y="3825720"/>
            <a:ext cx="163800" cy="50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88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MEMEO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62240" y="425124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62240" y="4589640"/>
            <a:ext cx="23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4038480"/>
            <a:ext cx="568440" cy="16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06680" y="4554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03440" y="4267080"/>
            <a:ext cx="94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06680" y="4762440"/>
            <a:ext cx="95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30720" y="3954600"/>
            <a:ext cx="12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6160" y="4478400"/>
            <a:ext cx="566640" cy="160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05240" y="387360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04960" y="3772080"/>
            <a:ext cx="540000" cy="26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04960" y="4170240"/>
            <a:ext cx="559080" cy="16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PERIPHER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04960" y="4506840"/>
            <a:ext cx="559080" cy="158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917360" y="4248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17360" y="4579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92240" y="3510000"/>
            <a:ext cx="6098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031840" y="4784400"/>
            <a:ext cx="127332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24240" y="4548240"/>
            <a:ext cx="2392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16560" y="4254120"/>
            <a:ext cx="8236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16560" y="393372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33960" y="375444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0360" y="3060720"/>
            <a:ext cx="1440" cy="69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1520" y="4761000"/>
            <a:ext cx="302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4160" y="41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1120" y="3684600"/>
            <a:ext cx="581040" cy="369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57800" y="4624560"/>
            <a:ext cx="158760" cy="272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880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PC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560" y="4125960"/>
            <a:ext cx="657360" cy="266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560" y="3795840"/>
            <a:ext cx="65736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FD2-4EA9-4B43-94B3-6FB7D92D20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8:37:21Z</dcterms:created>
  <dc:creator>Shiro Hagiwara</dc:creator>
  <dc:description/>
  <dc:language>en-US</dc:language>
  <cp:lastModifiedBy>Shiro Hagiwara</cp:lastModifiedBy>
  <cp:lastPrinted>2004-08-14T02:27:07Z</cp:lastPrinted>
  <dcterms:modified xsi:type="dcterms:W3CDTF">2005-01-22T01:13:05Z</dcterms:modified>
  <cp:revision>32</cp:revision>
  <dc:subject/>
  <dc:title>自動車と情報SECUTITY技術の接点</dc:title>
</cp:coreProperties>
</file>